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9F1-6CE6-4E5D-BDC8-E55647BD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48E-BA3D-46D9-9B75-1C36FD6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06EB6-B5DA-4480-A8A4-6C20AA65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636A0-51D5-4BAE-BB04-9BAC427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79C9B-EE39-4EC7-A241-BD16DD5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0103D-24EB-4DFD-B1B9-EAFAB6A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D5AFB-20DE-406A-9293-2EBEFA6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9CDC7-C45B-4598-9583-7E97B5F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71FCC-E444-4548-862C-7D9305E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F69F2-011F-45A2-A13F-B3A9922C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49B7-D43B-4C0E-A4C7-C46D36B2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6AF46-D8D4-48F7-87B7-644D35C2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9F2-83E7-409D-9F33-31A54861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2AA5B-9B09-4B7A-A99E-FC8777B2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62AC9-13F9-4D25-8028-2DB25EC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B8972-A1E5-4D95-B096-20C3DA03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DC8CC-491F-4A3C-9B48-E8A0D684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A52FC-810F-43F4-8AC3-F6FB71C4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312D4-69D9-46D4-ADDA-C3908BD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DA294-A16E-4266-B6B1-DAEB17F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AAB7D-4CA2-40EA-A3B4-459EEE8C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E358A-027D-4611-9D58-B2D51F55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B1E31-E25B-4BA7-8DF1-B318F2B5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974-5E15-4C82-97D4-EDF2A83F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93143-93C2-4252-B295-3D805DE9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23701-A04E-4838-9C58-9137AE04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3D8FD-601D-49CB-9C5A-4D517E0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B9550-B6DE-42C1-A1E4-9C43A082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D973-B31C-401E-B7D9-A9BFDA21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3ED0B-1AAE-4381-9C5C-E20466FA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AA83A-D734-40A1-960F-065C410F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02C49-B061-47F2-A204-A7C462E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2DE59-E1C9-4F00-9254-B7205ED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F81D8-56B6-4C31-901C-5141AAA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C3F5-D746-4825-87E4-2891086C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FB0B1-A6E2-4C68-BD76-123736B8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CB05A-1B76-4732-B373-32F6BF7F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A49E2-84C2-4359-8DEC-7BB7FF22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8F750-BC29-43CD-A856-E7825F49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D154D-F44E-41FF-9C8D-7BF917B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D3BF2-348B-4F24-B6BC-EAC7365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8C482-81AA-4561-ABC3-F5EE187E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2C657-DC83-4148-8E62-3ABEFEA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790E2-2C89-4B24-84BD-A8E88AE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104FD-68E8-46E4-9839-89E396B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E4D5-BF84-496A-8D42-D2653B51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61825-CC7C-4735-8EA7-29D816C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0E000-95C9-42C1-A170-001A8F4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5D4A7-E92D-4144-9461-0979ED0E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4E757-B675-4542-B4A9-7780B85E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21F9B-7860-428D-9564-707BBC57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F7B6-B48E-4D7C-9CE9-04878439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720F-6B31-4569-8A90-6C20C1B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566-AF2E-4850-9CC3-55644BD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3D84-F29F-472F-8B10-5AEC1524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2165-619E-4B2A-941A-9F89BF6B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D60-832E-49B9-B75A-2EAEB57D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405B-C1DE-4965-B1F0-601C5E0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8FE-857B-4DB7-B597-9994E4B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8A4A-B962-47D3-A5C0-FA691A58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C47F-5581-44B8-8D6D-75502EEB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150E-8666-4941-87F8-7107330B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11E8-42C3-41A0-9F0E-53281F84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DDDF-9220-466B-9C30-7D39B32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F688-678C-4047-A2E3-3FDB52D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6578-4EBD-4794-BCDC-51BB8BF4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B839-F056-4F38-A91E-9BDF5CE6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34B-9871-4F56-83AA-E8091204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9F25-7835-4031-A378-FCD1B8D0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A13E-8009-437C-BC80-DB0CA0E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837D-2BA9-487F-A8D5-66A83AA1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1ABE-7BE1-47A9-AA12-EC86442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B339-AD4E-40E2-AFA7-ED06627E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4AAD-2304-4758-9C75-407B15E6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E1E3-4A87-4D02-A2CD-BD3E808A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6395-4243-4BC4-8859-22BCC98F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5DDC-4BE0-419C-9CFE-C2AC7BC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B298-1475-4969-96B6-462F933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1FA-B6E4-43A9-84CB-C3A148A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3B54A-81ED-491A-8E82-705C1191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1EA4C-2664-4BBF-8F00-6D984D7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C2C7-301E-492A-9C5F-13A57E8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8D51-2135-45BF-BB13-058F8E9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84BB-D77F-440F-B136-DA677EF8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8BFD-0471-4A1B-AA75-2DE6F89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EAED-8A1F-457B-98C5-1D40B18C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A0FF-C28B-4A26-BD89-2DB25282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4CD5-C3D2-4F5B-8BD2-D6FAA1F1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ADF8-AB73-4989-ADFB-DF0BCE6C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2CD-9D29-4AFD-9EAA-34F6D1FB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1F24C-1F60-435C-AA0A-FB629632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4B66-2061-46F4-8BA6-D12547FD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DD9A-5EE2-4D82-ADE8-A1E189A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259B-89B3-4CF5-B971-AC590D1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A987-7CA4-46EF-B19F-C194515B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F469-AE7A-46A7-8D99-81F8F20A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4A2A-C5B6-47B2-AE96-6BC167A2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D6D80-E191-47EB-8DCF-776B196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A7D1-9907-4E88-8554-2E77EA11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476D-1717-4C12-976D-39CAC1FA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052-52A1-4C26-B0F3-851158AB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30883-A174-470B-9988-229CCE73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392C8-0EC1-4B0E-965D-BCEB2561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C2045-16B3-4F49-B727-C713173E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37A6-3948-4922-8E11-8ACED07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BDF3D-7001-4B22-93E8-2776B04D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40F9-37C2-480D-B0B9-AB7A2B9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8BE78-57C0-4E73-8D4A-D51BB60A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F6909-1F03-4039-BAF3-7668AA9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00442-36FE-4218-A9B5-BA1012B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A9C3-3DD1-496B-9F4C-FEF7FDA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B3A-C6C1-44B0-BAF3-8B4C72F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88120-DCBF-4952-BE94-0257C191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CCF9-3E62-4AD7-97F0-A5D015DD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EB4D-5D5E-4ECE-AA83-53BC066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D03E-CEFA-4C2F-B0FE-E3E3EDDE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22638-5AA9-4CA1-82AB-E1E8966F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A144B-16AA-48EA-985B-8E1E5C9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DF5AE-6011-4318-AA87-79E5A655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3363-E549-4E8A-BB44-A783FAF9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8462C-95EF-4864-AD0B-3FEC894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577D-65EC-4362-B7D8-9657A03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10C-9680-4022-BC48-4612825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A11C3-2E33-4E7D-8B5B-1A4CB9A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E77B1-3FF5-4F3B-94C0-DDC2E638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F561-1C0A-41A7-BD95-2EBE008F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56E5-22F0-4B4C-9D23-C34F87CA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CC0DC-BB6D-463C-A783-CF226C3C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C24DD-37B2-41B7-8C33-9FFAAC95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7F3B-71AB-4F40-A381-E67804D5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5031-46F4-43D5-B812-159251C2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86982-C584-41CF-BCA7-A5A874F9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D37D-2465-48F3-A9E5-DBED19B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35A-A1CD-4919-9B53-2567679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FB18B-F4C6-4C3D-845E-63463A9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2D22-A0E9-4041-8BA6-25B997A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9B659-4296-433F-B65D-6E11CCE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1739A-62A3-44CD-B6F2-5D00132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A0D28-B934-4EB9-B260-7300A399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DFB9A-AD91-4D29-BAE9-4C8F074B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174BF-8D13-4471-B14C-FAB318DE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CA788-1659-42EA-82AE-B0BA9475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C2AB7-FA21-4BCD-84A2-90C3500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A568E-3961-4AA0-A0DC-83B7700A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6C4B-3F83-4C4A-9142-D095A17539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0BA-90D9-4961-A789-9B3ECF3EDF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3CFC-BC50-47AC-A2AC-E84DB848E5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44E-38BE-4E88-BA2B-5352B62212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496-D2D1-49DF-A0F5-701DD7B597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40E8-35D5-4A1B-944A-DA6223B414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AF85-891F-4AF2-A64C-6B2BAE8FC2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463C-7E81-45F9-9373-86AD929ED7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1A2-66B6-40DF-B420-25DC048947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F4E-A6A4-4476-A86B-44116749BA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535-53E5-4AE7-A11A-AA7C5CE983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31D-CE68-4D9D-88BA-9A4BFF5A2E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7 Je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ý Pánov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ev 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 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j mil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požehnaný Pánov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svätá sobota.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ám z duše mizne starosť, ti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i Slove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každý Božím daro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ak pamiatkou na stvore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znakom večnej dobr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ú vzácne chvíle sob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ej pieseň chvá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a tento neba dar!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drahý Pán a Stvori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et z hriechu vykúpil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mrie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kríž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z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á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lásky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iel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hrobu zostúpi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dal nám viery istot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v Božej sile k život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k ako on sám slávne raz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ie zmŕtvychvst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každý z 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 ňom tu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á spásy stály zdroj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hriech ti srdce pora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oď k Spasiteľ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liek má, balzam na ra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 pokoj obn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ž zakrátko sa otvor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ie brány nebies domo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v sobotný deň bude z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ieť vrúcny vykúpencov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46:47Z</dcterms:modified>
  <cp:revision>23</cp:revision>
  <dc:subject/>
  <dc:title>Je veľký náš Pán, on slávy je Kráľ Nech do všetkých strán  spev vrúcnych znie chvál.</dc:title>
</cp:coreProperties>
</file>